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946-796D-4740-91B4-B0E3844F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C2C-AC67-498A-AAA2-AAFF33FC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898-7E11-4C27-82E2-BE2951D1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458-A439-437D-9FE6-EA649F81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F537-0E81-4502-9BB3-9159D65E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2904-1688-4167-A574-47EA33D1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8B23-0979-4377-A085-A5B7F79D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26B8-286C-46FF-9C24-576D4F4F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AF44-5C61-4136-83AE-D47CCF35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A22D-F1CC-481D-B3BC-9A365588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775D-001C-4B9C-8658-A1B60018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C8C-5E81-4660-98B6-A0CDD994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470C-9A3B-44CF-B814-C752284B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AF19-9F14-4BF7-8673-AF348C17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93B2-2C8F-4287-9320-8D9B46F1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AD1E-2353-4E97-8EA5-309B5920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90D6-9543-44AD-AA64-99FA275E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088-EA9A-4238-A5D1-0D5AFA1C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1F6-9143-4300-BB62-1D2B984B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C1B-3318-475C-9A76-D2BC5122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AA9-E7DC-4E45-9E38-79EB7AA7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16B-2632-4908-980E-997E692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B32-E202-4E12-AAE6-F516C306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D5C-6661-413C-8F9D-0D5CFC8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0DE4-56BC-49EA-8218-E9A246AFBB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3A5E-D670-431C-A801-4E673A5F55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章  国际资本流动与国际金融市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capital flow &amp; International financial mar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第三节  离岸金融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离岸金融市场的概念与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概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离岸金融市场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离岸金融市场的特点和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存款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贷款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四、离岸金融市场对世界经济的影响及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对世界经济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资本流动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资本流动的含义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国际资本流动的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考察国际资本流动可以从五个方面入手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向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规模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的类型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性质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式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（二）国际资本流动的类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长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国际借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短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贸易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银行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保值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投机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国际资本流动理论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关于国际资本流动原因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完全竞争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生命周期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内在化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折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关于国际资本流动的效果与影响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般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缺口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雷布金斯基原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国际金融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国际金融市场概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国际金融市场概念与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传统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新型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国际金融市场形成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所在地必须有较为稳定的经济和政治环境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宽松的金融政策与优惠措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完善的金融市场结构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具备良好的地理条件、拥有完善的国际通讯设施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国际金融市场的形成与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金融市场的形成与衰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金融市场兴起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离岸金融市场的形成与发展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二、货币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内的短期资金借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货币市场的分类（按照资金融通形式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短期信贷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短期证券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库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可转让银行定期存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银行承兑汇票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商业票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贴现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资本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的长期资金市场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资本市场分类（按照贷款方式的不同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中长期贷款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-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长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长期贷款运作方式（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130-13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证券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政府债券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企业证券（公司债券、公司股票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外汇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外汇市场综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定义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广义的外汇市场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狭义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的形式（从交易情况划分）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无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有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外汇市场的组成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银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经纪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央银行等政府管汇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他，如跨国公司、投机商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世界主要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苏黎世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黄金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黄金市场简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五大黄金交易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黄金市场种类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交割期限划分：现货交易市场和期货交易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管制程度划分：自由交易市场和限制交易市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黄金市场的结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三）黄金市场的交易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现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期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四）世界主要黄金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伦敦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苏黎世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香港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加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2:50:17Z</dcterms:created>
  <dc:creator>MS User</dc:creator>
  <dc:description/>
  <dc:language>en-US</dc:language>
  <cp:lastModifiedBy>Dell</cp:lastModifiedBy>
  <dcterms:modified xsi:type="dcterms:W3CDTF">2021-08-23T22:46:23Z</dcterms:modified>
  <cp:revision>17</cp:revision>
  <dc:subject/>
  <dc:title>第四章  国际资本流动与国际金融市场</dc:title>
</cp:coreProperties>
</file>